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12193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94BF-AED9-47FC-9DAC-EC128B89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189F-72DA-4EC5-BEBD-F0DBCA83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312E-CDE1-4A36-BE8F-32A9EB0E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B097-E67B-46EF-B35B-1A15C584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E280-A29F-4394-880A-BFBFA533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BD70-B186-4E61-BD0F-E7CD80C1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029F-6490-4B09-B733-3B067F9B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7FC9-6EA1-4918-9566-92416D38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9C63-8F8E-4F2F-97CA-681105BA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5D04-2753-41AE-AD17-5ABDBFD4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B925-B21E-4615-803A-2A598834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058-EC34-4FA8-9AF0-4699D6E8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A5A9-808C-497C-A43A-B63C1A45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6F83-CF34-47A1-8910-B03BB877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FBD4-FB75-4236-8C2F-A0BA6114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9774-AD07-41E1-AEE5-1BF0FF5A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0CE3-366C-4799-8DE0-95BA1802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86739-DFA3-47BD-8101-EC644BE4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95D13-150D-4767-8FB0-5BD5F642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A7090-B54D-47DB-94DE-56883858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48559-82E2-4924-9A48-7B484E97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C2F9B-3BE6-40E0-990B-D850A89A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7B59-2313-49CB-94B9-78C214C8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55866-993F-4C0F-A8EE-1CC8F411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B2D14-2C84-466C-86F0-6C1D6C2D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AEB6B-0C65-4113-8247-7BF9578A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6AA9D-3F31-4AE5-B548-6D451039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D658B-E12B-4C37-A1FE-F897FE02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636FC-F767-4F62-A348-CEAACB82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6156B-01CE-406E-9F07-94C3D9D4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719CA-18FD-4064-A71E-B00F6D1AF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CA149-1F3E-4CA8-851C-51BBFCE1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6B663-4A44-4BD2-A9FB-9760956E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4DFF-C80C-474B-B80A-4B2D772A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55988-43B7-4A8F-938F-7C472E5C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F37D4-D5A1-4F54-A19C-955BE914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F993D-65FE-4D02-A79F-55CA07F3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3A496-5A98-4C4B-B1EF-29169992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9647C-403B-4A7A-8115-82E89291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405B3-C8A0-4DBF-8718-30B15E41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68714-C052-4231-B899-80E3DC81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7DDF6-8E45-43D3-91AE-525B179F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13B60-0945-4ED4-9FB2-DDABDD6B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2207-92B3-4BCB-9B33-6D87A54A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3DC7-1DB5-4A6B-B107-543A327D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729D-FFF8-4BCD-802A-A1F6CD76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5DB8-E769-4D30-82BE-D7B8AB7B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E886-63E4-4786-9410-A2C56E82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5FD4-FAB3-4BE7-8A70-7383C457E450}" type="slidenum">
              <a:rPr b="0" lang="en-A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3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37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ACE7-ED92-4FCB-8854-743CBFDDE95C}" type="slidenum">
              <a:rPr b="0" lang="en-A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2DCD-0781-49D7-9690-346FA586369E}" type="slidenum">
              <a:rPr b="0" lang="en-A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884C-7241-44A6-8DB4-CB8F90ECB417}" type="slidenum">
              <a:rPr b="0" lang="en-A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"/>
          <p:cNvSpPr/>
          <p:nvPr/>
        </p:nvSpPr>
        <p:spPr>
          <a:xfrm>
            <a:off x="5378400" y="2782800"/>
            <a:ext cx="46720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8000"/>
                </a:solidFill>
                <a:latin typeface="Tahoma"/>
                <a:ea typeface="Tahoma"/>
              </a:rPr>
              <a:t>God Space – Week 1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ahoma"/>
                <a:ea typeface="Tahoma"/>
              </a:rPr>
              <a:t>Defining God Spa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ahoma"/>
                <a:ea typeface="Tahoma"/>
              </a:rPr>
              <a:t>and its practi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Romans 12 v1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3" name="Picture 1" descr="http://www.loveyourneighbour.nz/images/shop/God%20Space%20small.jpg"/>
          <p:cNvPicPr/>
          <p:nvPr/>
        </p:nvPicPr>
        <p:blipFill>
          <a:blip r:embed="rId1"/>
          <a:stretch/>
        </p:blipFill>
        <p:spPr>
          <a:xfrm>
            <a:off x="0" y="-11160"/>
            <a:ext cx="55944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684360" y="690480"/>
            <a:ext cx="846108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8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ahoma"/>
                <a:ea typeface="Tahoma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  <a:ea typeface="Tahoma"/>
              </a:rPr>
              <a:t>Being outward focus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ahoma"/>
                <a:ea typeface="Tahoma"/>
              </a:rPr>
              <a:t>“</a:t>
            </a:r>
            <a:r>
              <a:rPr b="0" lang="en-US" sz="2600" spc="-1" strike="noStrike">
                <a:solidFill>
                  <a:srgbClr val="404040"/>
                </a:solidFill>
                <a:latin typeface="Tahoma"/>
                <a:ea typeface="Tahoma"/>
              </a:rPr>
              <a:t>Almighty God, you have made us for yourself and our hearts are restless until we find our rest in you.”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ahoma"/>
                <a:ea typeface="Tahoma"/>
              </a:rPr>
              <a:t>– </a:t>
            </a:r>
            <a:r>
              <a:rPr b="0" lang="en-US" sz="2600" spc="-1" strike="noStrike">
                <a:solidFill>
                  <a:srgbClr val="404040"/>
                </a:solidFill>
                <a:latin typeface="Tahoma"/>
                <a:ea typeface="Tahoma"/>
              </a:rPr>
              <a:t>St Augustine of Hippo/Algeria (354-428 AD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Bus lane end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No Overtaking Zon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Picture 4" descr="https://upload.wikimedia.org/wikipedia/commons/thumb/6/65/Thailand_road_sign_%E0%B8%99-17.svg/1280px-Thailand_road_sign_%E0%B8%99-17.svg.png"/>
          <p:cNvPicPr/>
          <p:nvPr/>
        </p:nvPicPr>
        <p:blipFill>
          <a:blip r:embed="rId1"/>
          <a:stretch/>
        </p:blipFill>
        <p:spPr>
          <a:xfrm>
            <a:off x="906480" y="3683160"/>
            <a:ext cx="2806560" cy="1739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https://upload.wikimedia.org/wikipedia/commons/thumb/6/6e/Thailand_road_sign_%E0%B8%95-61_%28old%29.svg/1024px-Thailand_road_sign_%E0%B8%95-61_%28old%29.svg.png"/>
          <p:cNvPicPr/>
          <p:nvPr/>
        </p:nvPicPr>
        <p:blipFill>
          <a:blip r:embed="rId2"/>
          <a:stretch/>
        </p:blipFill>
        <p:spPr>
          <a:xfrm>
            <a:off x="4788000" y="3508200"/>
            <a:ext cx="250812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"/>
          <p:cNvSpPr/>
          <p:nvPr/>
        </p:nvSpPr>
        <p:spPr>
          <a:xfrm>
            <a:off x="527040" y="701640"/>
            <a:ext cx="8929800" cy="54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ahoma"/>
                <a:ea typeface="Tahoma"/>
              </a:rPr>
              <a:t>If Christ-followers are going to create a God Space for others it has to start inside us….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ahoma"/>
                <a:ea typeface="Tahoma"/>
              </a:rPr>
              <a:t>It takes safe people to create safe places!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But so often I and ME get in the way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Romans chapter 12 verse 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Tahoma"/>
              </a:rPr>
              <a:t>So then, my friends, because of God's great mercy to us I appeal to you: Offer yourselves [your bodies] as a living sacrifice to God, dedicated to his service and pleasing to him. This is the true worship that you should offer.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008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ahoma"/>
                <a:ea typeface="Tahoma"/>
              </a:rPr>
              <a:t>Being avail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349200" y="158760"/>
            <a:ext cx="11507760" cy="70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  <a:ea typeface="Tahoma"/>
              </a:rPr>
              <a:t>Defining God Spa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1" i="1" lang="en-AU" sz="2400" spc="-1" strike="noStrike">
                <a:solidFill>
                  <a:srgbClr val="000000"/>
                </a:solidFill>
                <a:latin typeface="Tahoma"/>
                <a:ea typeface="Tahoma"/>
              </a:rPr>
              <a:t>God Space </a:t>
            </a:r>
            <a:r>
              <a:rPr b="1" lang="en-AU" sz="2400" spc="-1" strike="noStrike">
                <a:solidFill>
                  <a:srgbClr val="000000"/>
                </a:solidFill>
                <a:latin typeface="Tahoma"/>
                <a:ea typeface="Tahoma"/>
              </a:rPr>
              <a:t>is where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ahoma"/>
                <a:ea typeface="Tahoma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Tahoma"/>
                <a:ea typeface="Tahoma"/>
              </a:rPr>
              <a:t>God is felt &amp; encountered in tangible ways that address the longings &amp; cries of the heart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Tahoma"/>
                <a:ea typeface="Tahoma"/>
              </a:rPr>
              <a:t>we come to the end of our finite resources and experience the infinite resources of God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Tahoma"/>
                <a:ea typeface="Tahoma"/>
              </a:rPr>
              <a:t>the natural gives way to the supernatural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Tahoma"/>
                <a:ea typeface="Tahoma"/>
              </a:rPr>
              <a:t>seeds of faith are planted, watered, nurtured and harvested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Tahoma"/>
                <a:ea typeface="Tahoma"/>
              </a:rPr>
              <a:t>gentleness and respect are present, judgment is absent, and divine dialogu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Tahoma"/>
                <a:ea typeface="Tahoma"/>
              </a:rPr>
              <a:t>flows naturally because trust has been established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Tahoma"/>
                <a:ea typeface="Tahoma"/>
              </a:rPr>
              <a:t>God’s love is demonstrated in practical, doable and authentic way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Tahoma"/>
                <a:ea typeface="Tahoma"/>
              </a:rPr>
              <a:t>the topic of God can be explored freely without our agendas getting in the way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Tahoma"/>
                <a:ea typeface="Tahoma"/>
              </a:rPr>
              <a:t>cynics, sceptics, scoffers and spiritually curious people can raise their questions, share their doubts, voice their concerns, and even vent their anger towards God and the church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Tahoma"/>
                <a:ea typeface="Tahoma"/>
              </a:rPr>
              <a:t>the “unworthy” feel safe enough to bring their real selves out into the light, and to journey, one step at a time, toward the magnetic pull they sense deep in their souls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Tahoma"/>
                <a:ea typeface="Tahoma"/>
              </a:rPr>
              <a:t>spiritual curiosity is aroused and the message of Christ becomes believable.”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God’s kingdom advances one heart at a time…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1"/>
          <p:cNvSpPr/>
          <p:nvPr/>
        </p:nvSpPr>
        <p:spPr>
          <a:xfrm>
            <a:off x="406440" y="511200"/>
            <a:ext cx="11785680" cy="64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8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Tahoma"/>
                <a:ea typeface="Tahoma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  <a:ea typeface="Tahoma"/>
              </a:rPr>
              <a:t>Being teach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8000"/>
                </a:solidFill>
                <a:latin typeface="Tahoma"/>
                <a:ea typeface="Tahoma"/>
              </a:rPr>
              <a:t>God Space </a:t>
            </a:r>
            <a:r>
              <a:rPr b="1" lang="en-US" sz="2600" spc="-1" strike="noStrike">
                <a:solidFill>
                  <a:srgbClr val="008000"/>
                </a:solidFill>
                <a:latin typeface="Tahoma"/>
                <a:ea typeface="Tahoma"/>
              </a:rPr>
              <a:t>Practic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Tahoma"/>
                <a:ea typeface="Tahoma"/>
              </a:rPr>
              <a:t>1.  Pray</a:t>
            </a:r>
            <a:r>
              <a:rPr b="0" lang="en-AU" sz="2600" spc="-1" strike="noStrike">
                <a:solidFill>
                  <a:srgbClr val="000000"/>
                </a:solidFill>
                <a:latin typeface="Tahoma"/>
                <a:ea typeface="Tahoma"/>
              </a:rPr>
              <a:t> – Gently explore the possibility of interceding for other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2.  Notic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 – Ask God to increase your awareness of people around you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3.  Serv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 – Look for ways to demonstrate God’s love with no string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attached through hospitality, community service et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4.  Listen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 – Focus on others!  Ask to hear their story.  Seek to understand their worldview.  Reflect back what you’re hearing.  Discerning praye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5.  Wonder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 –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Ask wondering questions to promote dialogue, probe belief systems, and reflect on life’s journey together. Open to doubts &amp; difficulti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6.  Share/Tell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 – Ask for permission before you share.  Keep it conversational!  Do not over-supply and kill the demand!  Share God’s story &amp; our stor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1"/>
          <p:cNvSpPr/>
          <p:nvPr/>
        </p:nvSpPr>
        <p:spPr>
          <a:xfrm>
            <a:off x="2232000" y="1760400"/>
            <a:ext cx="7875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  <a:ea typeface="Tahoma"/>
              </a:rPr>
              <a:t>Being outward focus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  <a:ea typeface="Tahoma"/>
              </a:rPr>
              <a:t>Being avail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  <a:ea typeface="Tahoma"/>
              </a:rPr>
              <a:t>Being teach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6942240" cy="3519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8047080" y="1528920"/>
            <a:ext cx="4145040" cy="3273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3"/>
          <a:stretch/>
        </p:blipFill>
        <p:spPr>
          <a:xfrm>
            <a:off x="3471840" y="3519360"/>
            <a:ext cx="4572000" cy="33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2290320" y="236520"/>
            <a:ext cx="7170840" cy="10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NZ" sz="2800" spc="-1" strike="noStrike">
                <a:solidFill>
                  <a:srgbClr val="0070c0"/>
                </a:solidFill>
                <a:latin typeface="Tahoma"/>
                <a:ea typeface="Tahoma"/>
              </a:rPr>
              <a:t>“…</a:t>
            </a:r>
            <a:r>
              <a:rPr b="1" i="1" lang="en-NZ" sz="2800" spc="-1" strike="noStrike">
                <a:solidFill>
                  <a:srgbClr val="0070c0"/>
                </a:solidFill>
                <a:latin typeface="Tahoma"/>
                <a:ea typeface="Tahoma"/>
              </a:rPr>
              <a:t>but with gentleness and respect.”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Tahoma"/>
                <a:ea typeface="Tahoma"/>
              </a:rPr>
              <a:t>using the six </a:t>
            </a:r>
            <a:r>
              <a:rPr b="1" i="1" lang="en-NZ" sz="2800" spc="-1" strike="noStrike">
                <a:solidFill>
                  <a:srgbClr val="000000"/>
                </a:solidFill>
                <a:latin typeface="Tahoma"/>
                <a:ea typeface="Tahoma"/>
              </a:rPr>
              <a:t>God Space </a:t>
            </a:r>
            <a:r>
              <a:rPr b="1" lang="en-NZ" sz="2800" spc="-1" strike="noStrike">
                <a:solidFill>
                  <a:srgbClr val="000000"/>
                </a:solidFill>
                <a:latin typeface="Tahoma"/>
                <a:ea typeface="Tahoma"/>
              </a:rPr>
              <a:t>practic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2290680" y="1479600"/>
            <a:ext cx="717084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9T19:05:58Z</dcterms:created>
  <dc:creator>Steve Jourdain</dc:creator>
  <dc:description/>
  <dc:language>en-US</dc:language>
  <cp:lastModifiedBy>Steve Jourdain</cp:lastModifiedBy>
  <cp:lastPrinted>2018-08-11T19:50:27Z</cp:lastPrinted>
  <dcterms:modified xsi:type="dcterms:W3CDTF">2018-08-11T20:01:47Z</dcterms:modified>
  <cp:revision>34</cp:revision>
  <dc:subject/>
  <dc:title>PowerPoint Presentation</dc:title>
</cp:coreProperties>
</file>