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2C5-320A-42B5-A5F8-BDF3BF60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2FE-DDE2-41EB-B518-905BCD5E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A95-1B64-4E4A-93FF-163A8BA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4D7-E930-48E7-82BE-A3002D3B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E523-CE88-47E1-8A4E-1EBE8D6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E5BD-ECF5-47E7-ADF2-3AF378B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4DE7-F91D-4401-804A-19A51E8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F58-B2F7-43F1-8AA5-7B8AFAA3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983-5BB2-4D52-AE20-98EB119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A07B-CF61-4977-ADD2-143D43A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31E0-6EC0-4B85-B134-98876A7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287-47A7-434B-81C9-EC22D3F9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EAB4-5666-469A-99A4-3871EA8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18C-0304-4DA8-AEB0-8CF348B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0EA6-243B-42DB-9DEE-B62C3D4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F22-1852-4000-ABC2-9B034727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02F0-7650-46E3-8126-E42723FC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2EC4-E72C-4F7C-848E-C1504DA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C49E-4ABA-4953-8754-EA3D3ED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668E-4B83-4207-81A4-60D59A8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946A-CE92-44E6-B105-6AA84D9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4A0F-6276-4696-9C66-2FC8A6B6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D30-5FD0-417E-8D4A-275CD48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E8A5-C668-4B5F-B714-CDED3C5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3D29-9AC0-42AE-996E-57D1658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2609-6EA6-460D-932E-6ABDE6D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1864-C4E2-430A-A980-EEC569F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2A2C-5D60-49A4-8E65-54E4533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DAE5-4B7C-4A20-A5EA-818B9061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A1ED-2E7E-4BE4-ACD2-BEF20489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090E-8FDD-4782-97FB-EDB0D5F7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91D6-C76E-4724-A799-0FF7D5EF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7F7C-E2B6-486E-8390-6F91BF28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E7-0235-47F2-9C5F-57F7EE4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9C60-A7C3-46ED-8D7F-482455F6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41E2-818A-49E9-AA34-A15CBAD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322A-C456-42E5-AE96-F3C23A3F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3E12-8D72-498D-9428-AEADEA1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5327-181A-43D1-95E5-BF448BE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BE67-0FCA-4697-9719-B17B101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33B3-064C-484B-B018-A983072F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42FB-073A-4D30-9661-D5FC4944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02C5-349B-4481-96B3-6F56A3DA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19A-C0C0-4E26-887A-CF85A1C1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716-4031-4823-8EE9-8EA112F3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5A2-E96A-49B7-9DE6-C0CD04B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DAF-362E-461D-BA81-2BB0D16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901-E633-4EC0-B143-641DB36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B6A-C3A9-445A-B7AA-6467725005BC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BD44-57F9-49DE-8AE4-EC346FD69F50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AB7A-E2CB-4270-BA2E-EBB798A0784B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F87-D6CE-43FE-B6BB-C30C0CE11536}" type="slidenum">
              <a:rPr b="0" lang="en-A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60040" y="579240"/>
            <a:ext cx="86281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2800" spc="-1" strike="noStrike">
                <a:solidFill>
                  <a:srgbClr val="009900"/>
                </a:solidFill>
                <a:latin typeface="Tahoma"/>
                <a:ea typeface="Tahoma"/>
              </a:rPr>
              <a:t>Some goals under Prayer might b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Pray the Lords prayer 3 times during a day at wor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Spend 5 minutes in silence at lunchtim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Before you go to sleep, 3 nights a week, review your day, asking where did you live well, when did you sense God’s presence and guidance, where did you need God’s hel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Tahoma"/>
                <a:ea typeface="Tahoma"/>
              </a:rPr>
              <a:t>Fast for one meal a wee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433440" y="658800"/>
            <a:ext cx="9477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Another goal might be to pray for a different topic each day of the we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unday - for your church worship &amp; other church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Monday - for world affai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uesday - for world mission and mission partners you kn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Wednesday - for our government &amp; local bod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hursday - for our family and frien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Friday - for the poor, unemployed, refugees, exploi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aturday - for the sick, bereaved, hur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039680" y="2536920"/>
            <a:ext cx="839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8000"/>
                </a:solidFill>
                <a:latin typeface="Tahoma"/>
                <a:ea typeface="Tahoma"/>
              </a:rPr>
              <a:t>Spiritual Practices #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A Rule of Lif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salm 11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4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2"/>
          <p:cNvSpPr/>
          <p:nvPr/>
        </p:nvSpPr>
        <p:spPr>
          <a:xfrm>
            <a:off x="363600" y="246240"/>
            <a:ext cx="11532960" cy="80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Joyful are people of integrity, who follow the instructions of the LORD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Joyful are those who obey his laws and search for him with all their heart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They do not compromise with evil, and they walk only in his path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4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You have charged us  to keep your commandments carefully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5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Oh, that my actions would consistently reflect your decrees!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6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Then I will not be ashamed when I compare my life with your command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7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As I learn your righteous regulations, I will thank you by living as I should!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8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will obey your decrees. Please don’t give up on me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9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How can a young person stay pure? By obeying your word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0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have tried hard to find you - don’t let me wander from your command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1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have hidden your word in my heart, that I might not sin against you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2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praise you, O LORD; teach me your decree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3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have recited aloud all the regulations you have given u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4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have rejoiced in your laws as much as in riches.</a:t>
            </a:r>
            <a:br>
              <a:rPr sz="2600"/>
            </a:br>
            <a:r>
              <a:rPr b="0" lang="en-A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5 </a:t>
            </a:r>
            <a:r>
              <a:rPr b="0" lang="en-AU" sz="2600" spc="-1" strike="noStrike">
                <a:solidFill>
                  <a:srgbClr val="000000"/>
                </a:solidFill>
                <a:latin typeface="Tahoma"/>
                <a:ea typeface="Tahoma"/>
              </a:rPr>
              <a:t>I will study your commandments and reflect on your ways.</a:t>
            </a:r>
            <a:br>
              <a:rPr sz="2600"/>
            </a:br>
            <a:r>
              <a:rPr b="0" lang="en-AU" sz="26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16 </a:t>
            </a:r>
            <a:r>
              <a:rPr b="0" lang="en-AU" sz="2600" spc="-1" strike="noStrike">
                <a:solidFill>
                  <a:srgbClr val="0070c0"/>
                </a:solidFill>
                <a:latin typeface="Tahoma"/>
                <a:ea typeface="Tahoma"/>
              </a:rPr>
              <a:t>I will delight in your decrees and not forget your wor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4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85840" y="147600"/>
            <a:ext cx="11739600" cy="73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I lie in the dust; revive me by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6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told you my plans, and you answered. Now teach me your decrees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7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Help me understand the meaning of your commandments,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    and I will meditate on your wonderful deeds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28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weep with sorrow; encourage me by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9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Keep me from lying to myself; give me the privilege of knowing your instructions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0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have chosen to be faithful; I have determined to live by your regulations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1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I cling to your laws. LORD, don’t let me be put to shame!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2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will pursue your commands, for you expand my understandi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3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Teach me your decrees, O LORD; I will keep them to the en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4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Give me understanding and I will obey your instructions;</a:t>
            </a:r>
            <a:br>
              <a:rPr sz="2400"/>
            </a:b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    I will put them into practice with all my heart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5 </a:t>
            </a:r>
            <a:r>
              <a:rPr b="0" lang="en-AU" sz="2200" spc="-1" strike="noStrike">
                <a:solidFill>
                  <a:srgbClr val="000000"/>
                </a:solidFill>
                <a:latin typeface="Tahoma"/>
                <a:ea typeface="Tahoma"/>
              </a:rPr>
              <a:t>Make me walk along the path of your commands, for that is where my happiness is found.</a:t>
            </a:r>
            <a:br>
              <a:rPr sz="22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6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Give me an eagerness for your laws rather than a love for money!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7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Turn my eyes from worthless things, and give me life through your wor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38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Reassure me of your promise, made to those who fear you.</a:t>
            </a:r>
            <a:br>
              <a:rPr sz="2400"/>
            </a:br>
            <a:r>
              <a:rPr b="0" lang="en-AU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9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ahoma"/>
              </a:rPr>
              <a:t>Help me abandon my shameful ways; for your regulations are good.</a:t>
            </a:r>
            <a:br>
              <a:rPr sz="2400"/>
            </a:br>
            <a:r>
              <a:rPr b="0" lang="en-AU" sz="2400" spc="-1" strike="noStrike" baseline="30000">
                <a:solidFill>
                  <a:srgbClr val="0070c0"/>
                </a:solidFill>
                <a:latin typeface="Tahoma"/>
                <a:ea typeface="Tahoma"/>
              </a:rPr>
              <a:t>40 </a:t>
            </a:r>
            <a:r>
              <a:rPr b="0" lang="en-AU" sz="2400" spc="-1" strike="noStrike">
                <a:solidFill>
                  <a:srgbClr val="0070c0"/>
                </a:solidFill>
                <a:latin typeface="Tahoma"/>
                <a:ea typeface="Tahoma"/>
              </a:rPr>
              <a:t>I long to obey your commandments! Renew my life with your goodnes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671400" y="1649520"/>
            <a:ext cx="1021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00"/>
                </a:solidFill>
                <a:latin typeface="Tahoma"/>
                <a:ea typeface="Tahoma"/>
              </a:rPr>
              <a:t>A regular pattern of prayer helps u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o keep a focus on God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minds us who we are as Christ-followers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whose we are as God’s sons and daughter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helps us to be open to God speaking to us and leading 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helps us to become more Christ-like in character and behaviou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554040" y="861840"/>
            <a:ext cx="110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ahoma"/>
                <a:ea typeface="Tahoma"/>
              </a:rPr>
              <a:t>A “rule” of lif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 from the Greek word for ”trellis” (structur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723960" y="1679400"/>
            <a:ext cx="2925720" cy="439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Image result for bean trellis"/>
          <p:cNvPicPr/>
          <p:nvPr/>
        </p:nvPicPr>
        <p:blipFill>
          <a:blip r:embed="rId2"/>
          <a:stretch/>
        </p:blipFill>
        <p:spPr>
          <a:xfrm>
            <a:off x="3879720" y="2976480"/>
            <a:ext cx="4130640" cy="309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Image result for bean trellis"/>
          <p:cNvPicPr/>
          <p:nvPr/>
        </p:nvPicPr>
        <p:blipFill>
          <a:blip r:embed="rId3"/>
          <a:stretch/>
        </p:blipFill>
        <p:spPr>
          <a:xfrm>
            <a:off x="8352000" y="1679400"/>
            <a:ext cx="32796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673200" y="630360"/>
            <a:ext cx="8667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Have you got a conscious, intentional pla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  <a:ea typeface="Tahoma"/>
              </a:rPr>
              <a:t>to grow your spiritual lif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Our goal will be the same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seeking a deeper relationship with God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having the mind and character of Christ formed in us, discovering the ministries and missions that God is calling us into – letting Jesus be Lord of every area of our li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But because we are different people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the way or rule we use to get there will be different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6892920" y="206280"/>
            <a:ext cx="53182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crip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lence &amp; solitu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 pattern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aily Off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WORK/A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ervice and mis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tudy or spiritual dir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hysical health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iet, exercise, re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lay &amp; recre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Community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faith compan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Emotional heal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9780310348450"/>
          <p:cNvPicPr/>
          <p:nvPr/>
        </p:nvPicPr>
        <p:blipFill>
          <a:blip r:embed="rId1"/>
          <a:stretch/>
        </p:blipFill>
        <p:spPr>
          <a:xfrm>
            <a:off x="4680" y="4680"/>
            <a:ext cx="686772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5877000" y="1609560"/>
            <a:ext cx="602928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Talk to your neighbour about this big picture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do you think about it as a plan for spiritual growth &amp; development?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would you add or leave ou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*</a:t>
            </a:r>
            <a:r>
              <a:rPr b="0" lang="en-GB" sz="2600" spc="-1" strike="noStrike">
                <a:solidFill>
                  <a:srgbClr val="c00000"/>
                </a:solidFill>
                <a:latin typeface="Tahoma"/>
                <a:ea typeface="Tahoma"/>
              </a:rPr>
              <a:t> What areas do you need to work 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85840" y="155520"/>
            <a:ext cx="531792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crip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lence &amp; solitu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rayer pattern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aily Off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WORK/A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ervice and mis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tudy or spiritual dir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hysical health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Diet, exercise, re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Play &amp; recre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Tahoma"/>
                <a:ea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Community </a:t>
            </a:r>
            <a:r>
              <a:rPr b="0" i="1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(faith compan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Tahoma"/>
              </a:rPr>
              <a:t>Emotional heal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9T19:05:58Z</dcterms:created>
  <dc:creator>Steve Jourdain</dc:creator>
  <dc:description/>
  <dc:language>en-US</dc:language>
  <cp:lastModifiedBy>Steve Jourdain</cp:lastModifiedBy>
  <cp:lastPrinted>2018-06-16T20:10:54Z</cp:lastPrinted>
  <dcterms:modified xsi:type="dcterms:W3CDTF">2018-06-16T20:11:25Z</dcterms:modified>
  <cp:revision>34</cp:revision>
  <dc:subject/>
  <dc:title>PowerPoint Presentation</dc:title>
</cp:coreProperties>
</file>