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64D-5690-462C-8F88-ECC137E4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D83-E756-4470-8B3F-178163AF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44C-83E1-47B1-A49D-73419533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794-39DD-4722-A726-6A12D2F7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DECB-C50E-47EF-8F4F-8C6E52CE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38C9-428B-4269-AB6A-CFAFFF2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A890-48CA-4257-9BEA-CDAFFFB7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61B1-F43E-489A-B983-88DA0C6C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CF6F-E9A0-4881-BAB5-A450ED21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E742-29AC-4A9B-A0F7-3737E6C4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1C50-C96C-4D6B-A271-8B315B5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25D-1A8C-4F20-8485-4596A6E0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C6C6-4E77-43B8-9429-727B62EC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6C3-3A09-4DD2-A30C-790548B7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27F8-060F-448C-AAEA-24ED33E1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B549-3D4A-42F4-BC44-DD13FB62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1E10-54F4-49BA-88E7-BE274BFA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6F6B-EB79-40BC-BF18-EDEE2484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87C7-A6BF-490E-8EDB-0073B0BA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82D9-F409-4724-AE39-6E427C4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6A8F8-1872-4084-B1E7-AAE24EB1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8E5D-053C-4417-A370-E0670861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275-4A8F-4E3F-B7FA-C6EEEDB3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D15D-47AA-446B-80D0-5DB7999D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57C5-79D5-4D3A-AC53-E5AB131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2A39-CF1F-42E1-B3B1-0612FB3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436D-4236-4FE1-81A1-90D17F2E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17AF-E713-407C-8AF4-C103A6EC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53FC-3FF9-44BC-B3A3-B542DE34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C6C4-2D0F-41BF-B889-3F972ECC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D075-062F-4454-820B-4273DCF5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28DB-E3DA-4A1C-852A-823734B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895A-DD5E-416F-BA3F-2479E4BF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F46-2C6F-4568-9897-53DBAEA5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C12B6-1D58-4568-865A-05568FD2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A776-18FF-4500-B6EB-2ED90B4E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572D-330C-470F-9D2A-31DF143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74DB-9709-489A-AD95-407588A9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E1B7-AAFF-4C7C-BBE6-B746E5CE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EAD6-FBA8-48BB-B824-3BE60B6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2847-BC76-473A-8CA8-5669B171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EC07-BBBD-4E95-AA96-CB5B8CA2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358E-481B-41B7-88E4-6D7FE0ED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437-4991-49D4-B94F-AD686824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B64-5E3E-4DFE-84BB-8174DE5A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A57-63BB-4A42-91F2-6FBEB30A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81E-9A5F-45B9-BC3A-01C4866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D4F-78D9-4824-A6CF-98FE1C7C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D339-BFFA-49F6-B04C-7A7348DD6555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B377-4039-4DBF-A776-2AEC85D37D8E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FF4F-1516-4C78-BE1D-934842F11A2E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630E-F4D6-4D9D-982F-5623BCCAD255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60040" y="579240"/>
            <a:ext cx="862812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2800" spc="-1" strike="noStrike">
                <a:solidFill>
                  <a:srgbClr val="009900"/>
                </a:solidFill>
                <a:latin typeface="Tahoma"/>
                <a:ea typeface="Tahoma"/>
              </a:rPr>
              <a:t>Some goals under Prayer might b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ahoma"/>
                <a:ea typeface="Tahoma"/>
              </a:rPr>
              <a:t>Pray the Lords prayer 3 times during a day at wor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ahoma"/>
                <a:ea typeface="Tahoma"/>
              </a:rPr>
              <a:t>Spend 5 minutes in silence at lunchtim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ahoma"/>
                <a:ea typeface="Tahoma"/>
              </a:rPr>
              <a:t>Before you go to sleep, 3 nights a week, review your day, asking where did you live well, when did you sense God’s presence and guidance, where did you need God’s hel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ahoma"/>
                <a:ea typeface="Tahoma"/>
              </a:rPr>
              <a:t>Fast for one meal a wee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433440" y="658800"/>
            <a:ext cx="9477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ahoma"/>
                <a:ea typeface="Tahoma"/>
              </a:rPr>
              <a:t>Another goal might be to pray for a different topic each day of the we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unday - for your church worship &amp; other church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Monday - for world affai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Tuesday - for world mission and mission partners you kn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Wednesday - for our government &amp; local bod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Thursday - for our family and frien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Friday - for the poor, unemployed, refugees, exploit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aturday - for the sick, bereaved, hur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039680" y="2536920"/>
            <a:ext cx="839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8000"/>
                </a:solidFill>
                <a:latin typeface="Tahoma"/>
                <a:ea typeface="Tahoma"/>
              </a:rPr>
              <a:t>Spiritual Practices #4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A Rule of Lif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salm 11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e4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2"/>
          <p:cNvSpPr/>
          <p:nvPr/>
        </p:nvSpPr>
        <p:spPr>
          <a:xfrm>
            <a:off x="363600" y="246240"/>
            <a:ext cx="11532960" cy="80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Joyful are people of integrity, who follow the instructions of the LORD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2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Joyful are those who obey his laws and search for him with all their heart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They do not compromise with evil, and they walk only in his paths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4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You have charged us  to keep your commandments carefully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5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Oh, that my actions would consistently reflect your decrees!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6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Then I will not be ashamed when I compare my life with your command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7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As I learn your righteous regulations, I will thank you by living as I should!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8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will obey your decrees. Please don’t give up on me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9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How can a young person stay pure? By obeying your word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10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have tried hard to find you - don’t let me wander from your command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1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I have hidden your word in my heart, that I might not sin against you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12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praise you, O LORD; teach me your decree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3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I have recited aloud all the regulations you have given us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14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have rejoiced in your laws as much as in riche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5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I will study your commandments and reflect on your ways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16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will delight in your decrees and not forget your wor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e4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285840" y="147600"/>
            <a:ext cx="11739600" cy="73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5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I lie in the dust; revive me by your word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26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told you my plans, and you answered. Now teach me your decrees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7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Help me understand the meaning of your commandments,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    and I will meditate on your wonderful deeds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28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weep with sorrow; encourage me by your word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9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Keep me from lying to myself; give me the privilege of knowing your instructions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0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have chosen to be faithful; I have determined to live by your regulations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1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I cling to your laws. LORD, don’t let me be put to shame!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2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will pursue your commands, for you expand my understanding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3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Teach me your decrees, O LORD; I will keep them to the end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4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Give me understanding and I will obey your instructions;</a:t>
            </a:r>
            <a:br>
              <a:rPr sz="2400"/>
            </a:b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    I will put them into practice with all my heart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5 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Make me walk along the path of your commands, for that is where my happiness is found.</a:t>
            </a:r>
            <a:br>
              <a:rPr sz="22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6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Give me an eagerness for your laws rather than a love for money!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7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Turn my eyes from worthless things, and give me life through your word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8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Reassure me of your promise, made to those who fear you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9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Help me abandon my shameful ways; for your regulations are good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40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long to obey your commandments! Renew my life with your goodnes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671400" y="1649520"/>
            <a:ext cx="1021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9900"/>
                </a:solidFill>
                <a:latin typeface="Tahoma"/>
                <a:ea typeface="Tahoma"/>
              </a:rPr>
              <a:t>A regular pattern of prayer helps u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o keep a focus on God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minds us who we are as Christ-followers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nd whose we are as God’s sons and daughters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helps us to be open to God speaking to us and leading u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nd helps us to become more Christ-like in character and behaviou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554040" y="861840"/>
            <a:ext cx="110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A “rule” of lif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– from the Greek word for ”trellis” (structure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723960" y="1679400"/>
            <a:ext cx="2925720" cy="4395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Image result for bean trellis"/>
          <p:cNvPicPr/>
          <p:nvPr/>
        </p:nvPicPr>
        <p:blipFill>
          <a:blip r:embed="rId2"/>
          <a:stretch/>
        </p:blipFill>
        <p:spPr>
          <a:xfrm>
            <a:off x="3879720" y="2976480"/>
            <a:ext cx="4130640" cy="3098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Image result for bean trellis"/>
          <p:cNvPicPr/>
          <p:nvPr/>
        </p:nvPicPr>
        <p:blipFill>
          <a:blip r:embed="rId3"/>
          <a:stretch/>
        </p:blipFill>
        <p:spPr>
          <a:xfrm>
            <a:off x="8352000" y="1679400"/>
            <a:ext cx="32796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673200" y="630360"/>
            <a:ext cx="86677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ahoma"/>
                <a:ea typeface="Tahoma"/>
              </a:rPr>
              <a:t>Have you got a conscious, intentional pla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ahoma"/>
                <a:ea typeface="Tahoma"/>
              </a:rPr>
              <a:t>to grow your spiritual lif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Our goal will be the same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seeking a deeper relationship with God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having the mind and character of Christ formed in us, discovering the ministries and missions that God is calling us into – letting Jesus be Lord of every area of our li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But because we are different people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the way or rule we use to get there will be different…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6892920" y="206280"/>
            <a:ext cx="53182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crip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ilence &amp; solitu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rayer pattern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Daily Offic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WORK/ACTIV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ervice and miss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tudy or spiritual dir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hysical health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Diet, exercise, res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abba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lay &amp; recre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Community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faith companion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Emotional heal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9780310348450"/>
          <p:cNvPicPr/>
          <p:nvPr/>
        </p:nvPicPr>
        <p:blipFill>
          <a:blip r:embed="rId1"/>
          <a:stretch/>
        </p:blipFill>
        <p:spPr>
          <a:xfrm>
            <a:off x="4680" y="4680"/>
            <a:ext cx="6867720" cy="68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5877000" y="1609560"/>
            <a:ext cx="6029280" cy="32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Talk to your neighbour about this big picture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*</a:t>
            </a:r>
            <a:r>
              <a:rPr b="0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 what do you think about it as a plan for spiritual growth &amp; development?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*</a:t>
            </a:r>
            <a:r>
              <a:rPr b="0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 What would you add or leave ou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*</a:t>
            </a:r>
            <a:r>
              <a:rPr b="0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 What areas do you need to work 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285840" y="155520"/>
            <a:ext cx="531792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Tahoma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crip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ilence &amp; solitu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rayer pattern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Daily Offic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Tahoma"/>
              </a:rPr>
              <a:t>WORK/ACTIV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ervice and miss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tudy or spiritual dir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hysical health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Diet, exercise, res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Tahoma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abba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lay &amp; recre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Tahoma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Community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faith companion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Emotional heal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9T19:05:58Z</dcterms:created>
  <dc:creator>Steve Jourdain</dc:creator>
  <dc:description/>
  <dc:language>en-US</dc:language>
  <cp:lastModifiedBy>Steve Jourdain</cp:lastModifiedBy>
  <cp:lastPrinted>2018-06-16T20:10:54Z</cp:lastPrinted>
  <dcterms:modified xsi:type="dcterms:W3CDTF">2018-06-16T20:11:25Z</dcterms:modified>
  <cp:revision>34</cp:revision>
  <dc:subject/>
  <dc:title>PowerPoint Presentation</dc:title>
</cp:coreProperties>
</file>